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8C6-FF3C-466D-8D3B-4D1C3D80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2B7-7514-4AC2-8E5C-1BB3F9B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6A0-357A-4AE5-85AE-5A99F291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5E7-9956-401A-840C-6A676E3A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D114-F9B5-42B2-90A2-8541254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043-7C5E-4FC5-B371-049A0C1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BFCF-162F-4BA8-8429-6A6D22ED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5473-2DB1-4C28-9604-4DA5B967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250-AD61-497F-9E8D-5167CD22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1612-C529-4BE1-B14F-962DDA7C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9D2E-E5D2-4CEE-86DA-99B94AA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ACD-5349-414D-A2DA-6072F91A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18A0-94DD-4FCC-B1B1-153B7B93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8822-AB2F-4C94-B8DB-71F8E981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D45A-A341-4795-B5F7-D70E6CBF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8B76-86D1-45AB-A09C-878B6769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AC24-EAB7-433A-B4E7-936D8379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495-EC44-42C3-A7DD-AE936B7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A2A-A671-44BA-B503-5D7DD8AC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1F12-F170-4DE0-8210-98A02F1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5BC-2E0B-4888-90FE-6A5381F4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BE3-2211-4F13-9122-A36B36BE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86B-C7AA-447C-BA75-B2B7A5FE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036-90E4-4C27-BCF5-66BAE0E1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DC7-6FEE-49E0-9616-24442AAD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AED1-C701-470F-8A0E-2272F33B6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IMATE AND WEATH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climate and wea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ermines clim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climate typ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Climate Reg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4" descr="ClimateMapWorld"/>
          <p:cNvPicPr/>
          <p:nvPr/>
        </p:nvPicPr>
        <p:blipFill>
          <a:blip r:embed="rId1"/>
          <a:stretch/>
        </p:blipFill>
        <p:spPr>
          <a:xfrm>
            <a:off x="990720" y="1143000"/>
            <a:ext cx="6924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Climate Reg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each climate region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emperat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 Humid Continental Cl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umid continen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m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ture mild to warm summers and cold winters. Precipitation is distributed fairly evenly throughout the year, though many locations well inland have more precipitation in the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5" descr="Climate  - Cartoon image for proofing use only, unauthorised reproduction prohibited."/>
          <p:cNvPicPr/>
          <p:nvPr/>
        </p:nvPicPr>
        <p:blipFill>
          <a:blip r:embed="rId1"/>
          <a:stretch/>
        </p:blipFill>
        <p:spPr>
          <a:xfrm>
            <a:off x="1981080" y="13716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weath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is the condition of the bottom layer of earth’s atmosphere in one place over a short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changes from week to week, day to day, or even from one minute to the nex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weath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MCj04124920000[1]"/>
          <p:cNvPicPr/>
          <p:nvPr/>
        </p:nvPicPr>
        <p:blipFill>
          <a:blip r:embed="rId1"/>
          <a:stretch/>
        </p:blipFill>
        <p:spPr>
          <a:xfrm>
            <a:off x="7315200" y="152280"/>
            <a:ext cx="158112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MCj04124640000[1]"/>
          <p:cNvPicPr/>
          <p:nvPr/>
        </p:nvPicPr>
        <p:blipFill>
          <a:blip r:embed="rId2"/>
          <a:stretch/>
        </p:blipFill>
        <p:spPr>
          <a:xfrm>
            <a:off x="228600" y="152280"/>
            <a:ext cx="1539720" cy="151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MCj04127480000[1]"/>
          <p:cNvPicPr/>
          <p:nvPr/>
        </p:nvPicPr>
        <p:blipFill>
          <a:blip r:embed="rId3"/>
          <a:stretch/>
        </p:blipFill>
        <p:spPr>
          <a:xfrm>
            <a:off x="6324480" y="4780080"/>
            <a:ext cx="1901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lace on earth has a climate typ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is best defined as the pattern of weather a place experiences over a long period of tim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mate is the average temperature and precipitation of a place over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MCj04136040000[1]"/>
          <p:cNvPicPr/>
          <p:nvPr/>
        </p:nvPicPr>
        <p:blipFill>
          <a:blip r:embed="rId1"/>
          <a:stretch/>
        </p:blipFill>
        <p:spPr>
          <a:xfrm>
            <a:off x="7391520" y="152280"/>
            <a:ext cx="148752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Elevation-  The higher into the atmosphere the colder the tempera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2" descr="mountains1280x1024"/>
          <p:cNvPicPr/>
          <p:nvPr/>
        </p:nvPicPr>
        <p:blipFill>
          <a:blip r:embed="rId1"/>
          <a:stretch/>
        </p:blipFill>
        <p:spPr>
          <a:xfrm>
            <a:off x="4114800" y="2762280"/>
            <a:ext cx="4191120" cy="335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MountEverest"/>
          <p:cNvPicPr/>
          <p:nvPr/>
        </p:nvPicPr>
        <p:blipFill>
          <a:blip r:embed="rId2"/>
          <a:stretch/>
        </p:blipFill>
        <p:spPr>
          <a:xfrm>
            <a:off x="228600" y="3048120"/>
            <a:ext cx="37339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Latitude- The closer to the equator the hotter the temperature.  Likewise, the closer to the poles the colder the temper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world2550"/>
          <p:cNvPicPr/>
          <p:nvPr/>
        </p:nvPicPr>
        <p:blipFill>
          <a:blip r:embed="rId1"/>
          <a:stretch/>
        </p:blipFill>
        <p:spPr>
          <a:xfrm>
            <a:off x="0" y="3581280"/>
            <a:ext cx="5238720" cy="266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rudlph_a"/>
          <p:cNvPicPr/>
          <p:nvPr/>
        </p:nvPicPr>
        <p:blipFill>
          <a:blip r:embed="rId2"/>
          <a:stretch/>
        </p:blipFill>
        <p:spPr>
          <a:xfrm>
            <a:off x="5791320" y="3838680"/>
            <a:ext cx="2590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factors determine clim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Location in relation to nearby landforms and bodies of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2005_gravity_atoll"/>
          <p:cNvPicPr/>
          <p:nvPr/>
        </p:nvPicPr>
        <p:blipFill>
          <a:blip r:embed="rId1"/>
          <a:stretch/>
        </p:blipFill>
        <p:spPr>
          <a:xfrm>
            <a:off x="228600" y="2666880"/>
            <a:ext cx="4457880" cy="2517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westSahara3er"/>
          <p:cNvPicPr/>
          <p:nvPr/>
        </p:nvPicPr>
        <p:blipFill>
          <a:blip r:embed="rId2"/>
          <a:stretch/>
        </p:blipFill>
        <p:spPr>
          <a:xfrm>
            <a:off x="4724280" y="3849840"/>
            <a:ext cx="42292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cgan276l"/>
          <p:cNvPicPr/>
          <p:nvPr/>
        </p:nvPicPr>
        <p:blipFill>
          <a:blip r:embed="rId1"/>
          <a:stretch/>
        </p:blipFill>
        <p:spPr>
          <a:xfrm>
            <a:off x="1981080" y="609480"/>
            <a:ext cx="4869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 types of climat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graphers and Climatologists have worked on many different classification systems to define climate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difficult task because of changing climate conditions and the lack of real accurate weather data from some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the types of climat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stem that is most widely used was developed by a German scientist, Wladimir Kopp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ppen’s system includes five broad climate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pical, Dry, Moderate, Continental, and Po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17:15:21Z</dcterms:created>
  <dc:creator>hberndt</dc:creator>
  <dc:description/>
  <dc:language>en-US</dc:language>
  <cp:lastModifiedBy>hberndt</cp:lastModifiedBy>
  <dcterms:modified xsi:type="dcterms:W3CDTF">2008-09-26T20:01:16Z</dcterms:modified>
  <cp:revision>6</cp:revision>
  <dc:subject/>
  <dc:title>CLIMATE AND WEATHER</dc:title>
</cp:coreProperties>
</file>